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04A-3AAB-457B-A9E5-54261FD9A9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F69-E459-4E7A-89F8-3032BD671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665-A109-41BA-81E1-5EB01810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90B-F72C-434D-99AA-E00B1BE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EC5-E32A-49BB-A46B-498B02B7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65D-7865-4CBC-8D03-8AC96C3A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728-1FB2-4A3F-BA2A-10783C82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443A-9763-4E0B-B11A-48E50A52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3C0F-F904-47D4-82B5-957F3A5E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9B50-314E-4B25-A2AF-0BAA81D5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E464-4423-40C6-8ED8-83671C5C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75E2-3885-441E-9743-7A18AF18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88AA-48C9-4F16-A6E7-50897CA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92D-ABE1-4F11-8814-F6C8484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B96-A260-4B93-8159-4C1682C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810A-C469-49E6-A242-FA63586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AF2B-490E-4941-8D52-02DA65D5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A09E-386E-4064-9769-637B7B98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1B6D-670A-42F3-8586-524F2DAE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D1B-A662-4CF7-BAEF-13CACF9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519-7E26-4F2A-A6E6-82C631F4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0DD-9C86-40E1-9FEC-9F5DF480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355-3EE0-4FD7-83C9-708EB0E3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D9F-7824-4BA8-8AE5-021B29A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601-B758-4F3E-BCB9-A86C5BF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270-4812-4AD2-881F-1DB8B18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8ED0-594B-46CE-993D-066FCD8148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05B2-E11F-4B9F-BE0C-47CAF70DEB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C902-DCEE-4641-A84F-495D842580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A40-C773-41C2-BE91-CB6DABF9AF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Box 6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ω 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νθρωπος καλει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νομον φι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ἀμην λεγ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ασκει ὁ Χριστος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ποιει τον κοσμον κα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9BCEBDC4-1302-4D09-89E1-A5AB8CBABD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Box 5"/>
          <p:cNvSpPr/>
          <p:nvPr/>
        </p:nvSpPr>
        <p:spPr>
          <a:xfrm>
            <a:off x="1000080" y="1928880"/>
            <a:ext cx="78580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ωσηφ λαμβανει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μεν και φιλουμεν τον λογ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 says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rowd listens to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are setting free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ome) People are ma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C7D45962-CC08-47CA-B69A-EAF7B00430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TextBox 3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28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928800" y="2071800"/>
            <a:ext cx="7358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υἱοι λα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ἀγγελοι βλεπουσ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ὀχλος τον θεον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ετε τον ἀρτ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ακωβ ἀγει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νομον τηρει ὁ λαος Ἰσραη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7C179445-5A54-4A44-8E4A-345A958961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85920" y="214200"/>
            <a:ext cx="600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TextBox 4"/>
          <p:cNvSpPr/>
          <p:nvPr/>
        </p:nvSpPr>
        <p:spPr>
          <a:xfrm>
            <a:off x="1000080" y="1928880"/>
            <a:ext cx="74296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Δαυιδ ὁ κυριος ζητ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SzPct val="120000"/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Χριστος τους ἀνθρωπους λ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has me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ach the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seeking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calling the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Exercises </a:t>
            </a:r>
            <a:fld id="{007C68DF-394B-4088-879D-382F337355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38:08Z</dcterms:created>
  <dc:creator>Sarah</dc:creator>
  <dc:description/>
  <dc:language>en-US</dc:language>
  <cp:lastModifiedBy>Sarah</cp:lastModifiedBy>
  <dcterms:modified xsi:type="dcterms:W3CDTF">2009-07-09T17:28:30Z</dcterms:modified>
  <cp:revision>17</cp:revision>
  <dc:subject/>
  <dc:title>Slide 1</dc:title>
</cp:coreProperties>
</file>